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6E67-91B7-4119-A2DF-DB5441023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8BB3-BD8D-4B3F-AD7A-35CD7DF3F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FA76-0680-4853-BEE0-7567C6CE8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785B-3C8A-4BAF-89CA-300CCA6E7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BC17-B33C-4A2E-BE72-3C5D51EC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213A-40A8-4601-97CB-41A04C21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1CAB-AB86-4E87-8DDF-F956E8B6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AD26-4BE9-47F6-B4DB-4DDB31F7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53AE-A65A-43C5-B77A-6A528016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9DCA-FDD9-4BF9-922D-6DAC810F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62A4-2EA2-440D-BA21-B205E7E0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A6CF-297E-4116-9056-B27B6053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4045-87E5-4F96-982F-94B03E0E319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35B6851-BBEE-474E-BD71-D102FAAA799F}" type="datetime12">
              <a:rPr b="0" lang="en-US" sz="1400" spc="-1" strike="noStrike">
                <a:solidFill>
                  <a:srgbClr val="000000"/>
                </a:solidFill>
                <a:latin typeface="Arial"/>
              </a:rPr>
              <a:t>08:51 AM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7442-E4C9-4F86-8C1D-4F78FCDB0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1905120"/>
            <a:ext cx="792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Chemistry Test 10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3620-9241-421D-9689-F9E2598E2B5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Ionic Equa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Think about your PPT la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Don’t forget charges (oxidation states) and your (aq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898F-CAAB-4BDD-9BB9-24AB0B2093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Electrolyt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Dissoci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More dissociation = more 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More ions = stronger electroly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Better conductors of electric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4F85-AEF7-44C4-AD45-4B78EEE678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Electrolyt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trong electroly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Weak electroly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Nonelectrolytes (sugars such as glucose and sucrose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63AF-2AC7-4AC1-92E5-AD6438946C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Moles of 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If you have one mole of NaCl, how many moles of Na</a:t>
            </a:r>
            <a:r>
              <a:rPr b="1" lang="en-US" sz="5400" spc="-1" strike="noStrike" baseline="30000">
                <a:solidFill>
                  <a:srgbClr val="eaeaea"/>
                </a:solidFill>
                <a:latin typeface="Arial"/>
              </a:rPr>
              <a:t>+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will be produced when NaCl is dissolved in water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CA3E-392C-4AE4-843C-FDC7417D9E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Colligative Properti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Vapor pressure lower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Boiling point elev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Freezing point depress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Osmotic pressure (not in the book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4255-A0BE-4CD7-B594-80B6B8D199F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Colligative Properti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These properties are dependent on the number of solute particles present in solution, not their identi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F94A-332A-4CD5-85C9-9B02FA1FA3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Colligative Properti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More particles = more change of the colligative propert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Nonelectrolytes have the least impact on these propert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FE24-B088-4B65-B0E0-E9ECA4B051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Colligative Properti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1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Molality is us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eaeaea"/>
                </a:solidFill>
                <a:latin typeface="Arial"/>
                <a:ea typeface="Times New Roman"/>
              </a:rPr>
              <a:t>Δ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  <a:ea typeface="Times New Roman"/>
              </a:rPr>
              <a:t>T</a:t>
            </a:r>
            <a:r>
              <a:rPr b="1" lang="en-US" sz="4800" spc="-1" strike="noStrike" baseline="-25000">
                <a:solidFill>
                  <a:srgbClr val="eaeaea"/>
                </a:solidFill>
                <a:latin typeface="Arial"/>
                <a:ea typeface="Times New Roman"/>
              </a:rPr>
              <a:t>b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  <a:ea typeface="Times New Roman"/>
              </a:rPr>
              <a:t> = K</a:t>
            </a:r>
            <a:r>
              <a:rPr b="1" lang="en-US" sz="4800" spc="-1" strike="noStrike" baseline="-25000">
                <a:solidFill>
                  <a:srgbClr val="eaeaea"/>
                </a:solidFill>
                <a:latin typeface="Arial"/>
                <a:ea typeface="Times New Roman"/>
              </a:rPr>
              <a:t>b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  <a:ea typeface="Times New Roman"/>
              </a:rPr>
              <a:t> * </a:t>
            </a:r>
            <a:r>
              <a:rPr b="1" i="1" lang="en-US" sz="4800" spc="-1" strike="noStrike">
                <a:solidFill>
                  <a:srgbClr val="eaeaea"/>
                </a:solidFill>
                <a:latin typeface="Arial"/>
                <a:ea typeface="Times New Roman"/>
              </a:rPr>
              <a:t>m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  <a:ea typeface="Times New Roman"/>
              </a:rPr>
              <a:t> * 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  <a:ea typeface="Times New Roman"/>
              </a:rPr>
              <a:t>For water: K</a:t>
            </a:r>
            <a:r>
              <a:rPr b="1" lang="en-US" sz="4800" spc="-1" strike="noStrike" baseline="-25000">
                <a:solidFill>
                  <a:srgbClr val="eaeaea"/>
                </a:solidFill>
                <a:latin typeface="Arial"/>
                <a:ea typeface="Times New Roman"/>
              </a:rPr>
              <a:t>b 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  <a:ea typeface="Times New Roman"/>
              </a:rPr>
              <a:t>=  0.512 </a:t>
            </a:r>
            <a:r>
              <a:rPr b="1" lang="en-US" sz="4800" spc="-1" strike="noStrike" baseline="30000">
                <a:solidFill>
                  <a:srgbClr val="eaeaea"/>
                </a:solidFill>
                <a:latin typeface="Arial"/>
                <a:ea typeface="Times New Roman"/>
              </a:rPr>
              <a:t>o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  <a:ea typeface="Times New Roman"/>
              </a:rPr>
              <a:t>C/</a:t>
            </a:r>
            <a:r>
              <a:rPr b="1" i="1" lang="en-US" sz="4800" spc="-1" strike="noStrike">
                <a:solidFill>
                  <a:srgbClr val="eaeaea"/>
                </a:solidFill>
                <a:latin typeface="Arial"/>
                <a:ea typeface="Times New Roman"/>
              </a:rPr>
              <a:t>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eaeaea"/>
                </a:solidFill>
                <a:latin typeface="Arial"/>
                <a:ea typeface="Times New Roman"/>
              </a:rPr>
              <a:t>Δ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  <a:ea typeface="Times New Roman"/>
              </a:rPr>
              <a:t>T</a:t>
            </a:r>
            <a:r>
              <a:rPr b="1" lang="en-US" sz="4800" spc="-1" strike="noStrike" baseline="-25000">
                <a:solidFill>
                  <a:srgbClr val="eaeaea"/>
                </a:solidFill>
                <a:latin typeface="Arial"/>
                <a:ea typeface="Times New Roman"/>
              </a:rPr>
              <a:t>f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  <a:ea typeface="Times New Roman"/>
              </a:rPr>
              <a:t> = K</a:t>
            </a:r>
            <a:r>
              <a:rPr b="1" lang="en-US" sz="4800" spc="-1" strike="noStrike" baseline="-25000">
                <a:solidFill>
                  <a:srgbClr val="eaeaea"/>
                </a:solidFill>
                <a:latin typeface="Arial"/>
                <a:ea typeface="Times New Roman"/>
              </a:rPr>
              <a:t>f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  <a:ea typeface="Times New Roman"/>
              </a:rPr>
              <a:t> * </a:t>
            </a:r>
            <a:r>
              <a:rPr b="1" i="1" lang="en-US" sz="4800" spc="-1" strike="noStrike">
                <a:solidFill>
                  <a:srgbClr val="eaeaea"/>
                </a:solidFill>
                <a:latin typeface="Arial"/>
                <a:ea typeface="Times New Roman"/>
              </a:rPr>
              <a:t>m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  <a:ea typeface="Times New Roman"/>
              </a:rPr>
              <a:t> * 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  <a:ea typeface="Times New Roman"/>
              </a:rPr>
              <a:t>For water: K</a:t>
            </a:r>
            <a:r>
              <a:rPr b="1" lang="en-US" sz="4800" spc="-1" strike="noStrike" baseline="-25000">
                <a:solidFill>
                  <a:srgbClr val="eaeaea"/>
                </a:solidFill>
                <a:latin typeface="Arial"/>
                <a:ea typeface="Times New Roman"/>
              </a:rPr>
              <a:t>f 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  <a:ea typeface="Times New Roman"/>
              </a:rPr>
              <a:t>=  -1.86 </a:t>
            </a:r>
            <a:r>
              <a:rPr b="1" lang="en-US" sz="4800" spc="-1" strike="noStrike" baseline="30000">
                <a:solidFill>
                  <a:srgbClr val="eaeaea"/>
                </a:solidFill>
                <a:latin typeface="Arial"/>
                <a:ea typeface="Times New Roman"/>
              </a:rPr>
              <a:t>o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  <a:ea typeface="Times New Roman"/>
              </a:rPr>
              <a:t>C/</a:t>
            </a:r>
            <a:r>
              <a:rPr b="1" i="1" lang="en-US" sz="4800" spc="-1" strike="noStrike">
                <a:solidFill>
                  <a:srgbClr val="eaeaea"/>
                </a:solidFill>
                <a:latin typeface="Arial"/>
                <a:ea typeface="Times New Roman"/>
              </a:rPr>
              <a:t>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aeaea"/>
                </a:solidFill>
                <a:latin typeface="Arial"/>
                <a:ea typeface="Times New Roman"/>
              </a:rPr>
              <a:t>Use a negative sign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0017-3749-4F37-80A9-9E9A531612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Colligative Properti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Be aware of what is being asked… Are you solving for the final temperature or how much of change is taking plac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B937-EBA4-45D1-BD97-16CE8FF06D7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Dilu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M</a:t>
            </a:r>
            <a:r>
              <a:rPr b="1" lang="en-US" sz="5400" spc="-1" strike="noStrike" baseline="-25000">
                <a:solidFill>
                  <a:srgbClr val="eaeaea"/>
                </a:solidFill>
                <a:latin typeface="Arial"/>
              </a:rPr>
              <a:t>1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V</a:t>
            </a:r>
            <a:r>
              <a:rPr b="1" lang="en-US" sz="5400" spc="-1" strike="noStrike" baseline="-25000">
                <a:solidFill>
                  <a:srgbClr val="eaeaea"/>
                </a:solidFill>
                <a:latin typeface="Arial"/>
              </a:rPr>
              <a:t>1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= M</a:t>
            </a:r>
            <a:r>
              <a:rPr b="1" lang="en-US" sz="5400" spc="-1" strike="noStrike" baseline="-25000">
                <a:solidFill>
                  <a:srgbClr val="eaeaea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V</a:t>
            </a:r>
            <a:r>
              <a:rPr b="1" lang="en-US" sz="5400" spc="-1" strike="noStrike" baseline="-25000">
                <a:solidFill>
                  <a:srgbClr val="eaeaea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Used to make solutions like the la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Remember the example in clas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BB87-DE35-49DB-9AA1-A1F784CFAA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Tes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42 multiple cho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Each question holds the equal weight (1 pt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Write-on answer she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4 problems, 2 ionic eq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One “essay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7D41-95C6-48AB-B2FC-87EEABFAAC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Review Last Un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Make sure to review your notes and review sheet from Test 9.  Many multiple choice questions are repeats from the last test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0FA3-D73A-4699-85C0-765350A811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Final Word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Finish all worksheets, staple the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Be ready to go at start of class (seated with calculator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Get your point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6C5F-E2ED-4133-B0C3-42350F280A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Recommenda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Don’t just copy the W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Study how to answer the questions, don’t memoriz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Give yourself exam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Plan your testing time wise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DBD7-875C-48A4-9154-0390257682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Concentr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Measure of solut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Molari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Molali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% Concentrati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8959-FF86-4595-A585-287A81D3F4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Molar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Moles solute / liters of soluti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M = mol / 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0887-2BD9-4041-942D-001FB008F0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Mola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Moles solute / kg of solven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eaeaea"/>
                </a:solidFill>
                <a:latin typeface="Arial"/>
              </a:rPr>
              <a:t>m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= mol / k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Used for colligative propert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9764-CA91-4966-A67E-F08F9E16B9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% Concentr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By mass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(Mass of solute / mass of solution) x 10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C49A-2F3B-4683-8A4D-777747F75F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Ionic Equa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Used to show the ions involved in double replacement (PPT) rx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Use table on Page 920 to determine solubilitie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2C22-BF6F-4A58-865B-535E954CDD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Ionic Equa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First write the balanced equation (use states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Then separate into ions (complete/overall) ionic equa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Finish with net ion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A84C-E1B7-40BD-A349-DBFAD2E9CD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19:11:04Z</dcterms:created>
  <dc:creator>CFISD</dc:creator>
  <dc:description/>
  <dc:language>en-US</dc:language>
  <cp:lastModifiedBy>CFISD</cp:lastModifiedBy>
  <dcterms:modified xsi:type="dcterms:W3CDTF">2009-03-02T15:37:02Z</dcterms:modified>
  <cp:revision>65</cp:revision>
  <dc:subject/>
  <dc:title>Slide 1</dc:title>
</cp:coreProperties>
</file>